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B59-CDE1-461E-9068-DE3624CC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32D-1D92-439F-91D0-DA5A5CAF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6E1-5602-48F4-BB16-FDA6F9B9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80A-D56F-43DB-B68A-528F85AC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DFF-EEBB-4108-9E6C-7414993D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FE0-FC89-4812-AF70-609C05DD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E82-EDC7-48EE-A415-5121856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BC5-C7DD-4C35-A275-113A156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703-BA4C-4B93-89AC-3C76BF56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CB5-41A9-447B-8F76-969D2C84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908-4544-4D11-BB61-8BB68A7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EC4-2E38-45E4-9418-4DD991E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78B-2D2D-4DC3-908D-387D85A2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&amp;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9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?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unction is declar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ase class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er or 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base class type will always call the child’s version of that function IF it has been overr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ful tool is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Func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leep() { printf("Sleeping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oid Call()  { printf("Call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at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 { printf("Meow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og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{ printf("Woof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20600" y="2803680"/>
            <a:ext cx="4699440" cy="627840"/>
            <a:chOff x="3720600" y="2803680"/>
            <a:chExt cx="4699440" cy="627840"/>
          </a:xfrm>
        </p:grpSpPr>
        <p:sp>
          <p:nvSpPr>
            <p:cNvPr id="79" name=""/>
            <p:cNvSpPr/>
            <p:nvPr/>
          </p:nvSpPr>
          <p:spPr>
            <a:xfrm>
              <a:off x="5055840" y="2971800"/>
              <a:ext cx="3364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a virtual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720600" y="2803680"/>
              <a:ext cx="13194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97360" y="3603240"/>
            <a:ext cx="5019840" cy="1670400"/>
            <a:chOff x="3897360" y="3603240"/>
            <a:chExt cx="5019840" cy="1670400"/>
          </a:xfrm>
        </p:grpSpPr>
        <p:sp>
          <p:nvSpPr>
            <p:cNvPr id="82" name=""/>
            <p:cNvSpPr/>
            <p:nvPr/>
          </p:nvSpPr>
          <p:spPr>
            <a:xfrm>
              <a:off x="6330240" y="4114800"/>
              <a:ext cx="25869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ctly the s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 bef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897360" y="4729320"/>
              <a:ext cx="241920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3906360" y="3603240"/>
              <a:ext cx="241308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1 = new Anim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2 = new C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3 = new Do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429000"/>
            <a:ext cx="2666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 means “change into many for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write your code using base type references/pointers and not care about the actual chil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used properly, allows for beautiful, simple code that’s easy to mai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ild class has a destructor,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ase class de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cause huge memory leaks since base class destructor doesn’t get call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declare base class destructor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ctual examp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ew polling, we use a base cla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present any type of connection between HO and 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irtual fun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n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onn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class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s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irect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mple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n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onn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own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class C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Connection() {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~CConnection() {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d to connect from host to client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Connect() { return fals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d to disconnect from client mach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Disconnect() { return fals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 class CRas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RasConnection : public C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sDial(..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Dis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sHangu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 class CDirect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DirectConnection : public C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rtual bool Disconnec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CPollingStore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PollingStore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onnection* m_p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PollingStoreSession(bool bUseRasConn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bUseRasConn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pConnection = new CRas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pConnection = new CDirect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CPollingStoreSess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m_pConn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ollStore(); // Defined lat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in 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seen how OOP promo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tremely important part of OOP is the abilit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es into logical hierarchies – this is done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at and potato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PollingStoreSession::PollStor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nect to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Connection-&gt;Connec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nd and receiv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isconnect from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Connection-&gt;Disconnec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we don’t care about the type of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add another connection ty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/Super/Par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/Sub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a par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 class is said to have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ionship with its parent;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se: Color, Children: Blue and 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or, and R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rom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as-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a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other class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in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class is declared as any normal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class declared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hild : public Base { …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can access anything in paren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tions, but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like private outside the class, but public fo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e can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D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C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oth of which are animals, and 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An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contain methods and properties common to both cats and dogs like Sleep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mon methods need to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clas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Call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++ Inherit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leep() { printf("Sleeping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 { printf("Call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at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 { printf("Meow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og : public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all() { printf("Woof!\n"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438280" y="1219320"/>
            <a:ext cx="3108600" cy="459720"/>
            <a:chOff x="2438280" y="1219320"/>
            <a:chExt cx="3108600" cy="459720"/>
          </a:xfrm>
        </p:grpSpPr>
        <p:sp>
          <p:nvSpPr>
            <p:cNvPr id="54" name=""/>
            <p:cNvSpPr/>
            <p:nvPr/>
          </p:nvSpPr>
          <p:spPr>
            <a:xfrm>
              <a:off x="3894120" y="1219320"/>
              <a:ext cx="1652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se 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438280" y="1447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028760" y="3125880"/>
            <a:ext cx="4147560" cy="825480"/>
            <a:chOff x="4028760" y="3125880"/>
            <a:chExt cx="4147560" cy="825480"/>
          </a:xfrm>
        </p:grpSpPr>
        <p:sp>
          <p:nvSpPr>
            <p:cNvPr id="57" name=""/>
            <p:cNvSpPr/>
            <p:nvPr/>
          </p:nvSpPr>
          <p:spPr>
            <a:xfrm>
              <a:off x="5098320" y="3125880"/>
              <a:ext cx="30780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ild 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inherits from Anima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028760" y="35067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82880" y="4572000"/>
            <a:ext cx="5509800" cy="1371600"/>
            <a:chOff x="2882880" y="4572000"/>
            <a:chExt cx="5509800" cy="1371600"/>
          </a:xfrm>
        </p:grpSpPr>
        <p:sp>
          <p:nvSpPr>
            <p:cNvPr id="60" name=""/>
            <p:cNvSpPr/>
            <p:nvPr/>
          </p:nvSpPr>
          <p:spPr>
            <a:xfrm>
              <a:off x="5382000" y="4952880"/>
              <a:ext cx="30106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verrid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he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the base 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882880" y="5345280"/>
              <a:ext cx="247320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2895120" y="4572000"/>
              <a:ext cx="248148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 anim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.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.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 c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.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.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g do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g.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g.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429000"/>
            <a:ext cx="2666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ild class declares and implements a member function that exists in the parent, thi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overri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tool, but can produce strange results when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ers or references to base class 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he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1 = new Anim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1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2 = new C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2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* pAnimal3 = new Do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Cal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imal3-&gt;Slee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Animal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429000"/>
            <a:ext cx="2666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76120" y="2133720"/>
            <a:ext cx="5644440" cy="909360"/>
            <a:chOff x="2976120" y="2133720"/>
            <a:chExt cx="5644440" cy="909360"/>
          </a:xfrm>
        </p:grpSpPr>
        <p:sp>
          <p:nvSpPr>
            <p:cNvPr id="72" name=""/>
            <p:cNvSpPr/>
            <p:nvPr/>
          </p:nvSpPr>
          <p:spPr>
            <a:xfrm>
              <a:off x="5307840" y="2133720"/>
              <a:ext cx="3312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fectly valid beca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C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s-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imal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976120" y="2581200"/>
              <a:ext cx="231156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1:25:37Z</dcterms:created>
  <dc:creator>Antonio Maiorano</dc:creator>
  <dc:description/>
  <dc:language>en-US</dc:language>
  <cp:lastModifiedBy>Tony</cp:lastModifiedBy>
  <dcterms:modified xsi:type="dcterms:W3CDTF">2003-08-23T18:10:20Z</dcterms:modified>
  <cp:revision>26</cp:revision>
  <dc:subject/>
  <dc:title>C/C++ Tutorial</dc:title>
</cp:coreProperties>
</file>